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3D4-641E-4D52-8024-6E0C8A8E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85D-6B2E-46A2-A4F0-2BE9D775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E67-CBF3-49CC-BB15-3550578A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5BB-BDF2-429C-8DB5-40453ADA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67D-ACDA-4446-B6F8-F356150D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698-BD71-46E8-A94E-CC4FFE45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530-EFFB-4442-A459-8BF704E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922-EAFC-4BD6-A7FB-BD0FE133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B15-EC1B-4F75-B641-3EC20C6B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506-EA30-4637-BFCA-08BC4B3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E40-D0EC-4138-8B88-4033B75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E1B-7CCA-4835-9C0B-9C12D495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7C6-650C-4971-926E-070C8EE8199C}" type="slidenum">
              <a:rPr b="0" lang="es-E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240" y="2707920"/>
            <a:ext cx="8929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LECCIONES APRENDIDAS,</a:t>
            </a:r>
            <a:br>
              <a:rPr sz="3600"/>
            </a:b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DESDE MI EXPERIENCIA,</a:t>
            </a:r>
            <a:br>
              <a:rPr sz="3600"/>
            </a:b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189000"/>
          <a:ext cx="8856720" cy="1871640"/>
        </p:xfrm>
        <a:graphic>
          <a:graphicData uri="http://schemas.openxmlformats.org/drawingml/2006/table">
            <a:tbl>
              <a:tblPr/>
              <a:tblGrid>
                <a:gridCol w="1656000"/>
                <a:gridCol w="5545080"/>
                <a:gridCol w="1655640"/>
              </a:tblGrid>
              <a:tr h="187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SV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*** UNIVERSIDAD DE EL SALVADOR 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S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ULTAD DE JURISPRUDENCIA Y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S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DAD DE DOCENCIA Y DESARROLLO PROFE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44" name="Imagen 4" descr=""/>
          <p:cNvPicPr/>
          <p:nvPr/>
        </p:nvPicPr>
        <p:blipFill>
          <a:blip r:embed="rId2"/>
          <a:stretch/>
        </p:blipFill>
        <p:spPr>
          <a:xfrm>
            <a:off x="7561440" y="260280"/>
            <a:ext cx="1323720" cy="165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147600" y="5516640"/>
            <a:ext cx="8856720" cy="12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IPLOMADO DE DOCENCIA EN EDUCACIÓN SUPERIOR PARA DOC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E LA FACULTAD DE JURISPRUDENCIA Y CIENCIAS SOCI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ódulo: </a:t>
            </a:r>
            <a:r>
              <a:rPr b="1" lang="es-SV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EVALUACIÓN DE APRENDIZAJES * Docente: Javier Vladimir Quintanilla Orell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196640"/>
            <a:ext cx="8928000" cy="2592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8. Como decía un antiguo y sabio maestro de evaluación: 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«La evaluación será siempre como el bikini: nunca nos mostrará todo, pero, nos dará una idea de lo que, probablemente, podemos encontrar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2 Marcador de contenido"/>
          <p:cNvSpPr/>
          <p:nvPr/>
        </p:nvSpPr>
        <p:spPr>
          <a:xfrm>
            <a:off x="108000" y="3860640"/>
            <a:ext cx="8928000" cy="2448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a calificación, la nota, como resultado de la evaluación, nunca será un indicador objetivo de lo que el estudiante realmente aprendió; pero, si el proceso evaluativo se ha llevado de forma sistemática y rigurosa, la calificación será un reflejo tenue, pero, más o menos fiable, que proporciona un diagnóstico del nivel de rendimiento del estudia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3 Marcador de contenido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4 Marcador de contenido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5 Imagen" descr=""/>
          <p:cNvPicPr/>
          <p:nvPr/>
        </p:nvPicPr>
        <p:blipFill>
          <a:blip r:embed="rId1"/>
          <a:stretch/>
        </p:blipFill>
        <p:spPr>
          <a:xfrm>
            <a:off x="431640" y="0"/>
            <a:ext cx="8394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504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I SUGERENCIA EN CUANTO AL SISTEMA DE EVALU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8000" y="691920"/>
            <a:ext cx="892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CICLO ACADÉMICO: 16 SEM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2 Marcador de contenido"/>
          <p:cNvSpPr/>
          <p:nvPr/>
        </p:nvSpPr>
        <p:spPr>
          <a:xfrm>
            <a:off x="90360" y="1125360"/>
            <a:ext cx="2681280" cy="3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beef4"/>
                </a:solidFill>
                <a:latin typeface="Calibri"/>
              </a:rPr>
              <a:t>SEMANA 1 -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2 Marcador de contenido"/>
          <p:cNvSpPr/>
          <p:nvPr/>
        </p:nvSpPr>
        <p:spPr>
          <a:xfrm>
            <a:off x="2843280" y="1125360"/>
            <a:ext cx="3457440" cy="3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beef4"/>
                </a:solidFill>
                <a:latin typeface="Calibri"/>
              </a:rPr>
              <a:t>SEMANA 6 - 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2 Marcador de contenido"/>
          <p:cNvSpPr/>
          <p:nvPr/>
        </p:nvSpPr>
        <p:spPr>
          <a:xfrm>
            <a:off x="6372360" y="1125360"/>
            <a:ext cx="2663640" cy="3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beef4"/>
                </a:solidFill>
                <a:latin typeface="Calibri"/>
              </a:rPr>
              <a:t>SEMANA 12 - 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2 Marcador de contenido"/>
          <p:cNvSpPr/>
          <p:nvPr/>
        </p:nvSpPr>
        <p:spPr>
          <a:xfrm>
            <a:off x="90360" y="1555920"/>
            <a:ext cx="2681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2 Marcador de contenido"/>
          <p:cNvSpPr/>
          <p:nvPr/>
        </p:nvSpPr>
        <p:spPr>
          <a:xfrm>
            <a:off x="2843280" y="1555920"/>
            <a:ext cx="345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2 Marcador de contenido"/>
          <p:cNvSpPr/>
          <p:nvPr/>
        </p:nvSpPr>
        <p:spPr>
          <a:xfrm>
            <a:off x="6372360" y="1555920"/>
            <a:ext cx="2663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2 Marcador de contenido"/>
          <p:cNvSpPr/>
          <p:nvPr/>
        </p:nvSpPr>
        <p:spPr>
          <a:xfrm>
            <a:off x="90360" y="1989000"/>
            <a:ext cx="2681280" cy="2376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Actividades evaluativas: controles de lectura, cuadros resumen, etc. (individual o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Examen par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2 Marcador de contenido"/>
          <p:cNvSpPr/>
          <p:nvPr/>
        </p:nvSpPr>
        <p:spPr>
          <a:xfrm>
            <a:off x="2843280" y="1989000"/>
            <a:ext cx="3457440" cy="2376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Actividades evaluativas: informes escritos, exposiciones, etc. (individual,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Examen par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2 Marcador de contenido"/>
          <p:cNvSpPr/>
          <p:nvPr/>
        </p:nvSpPr>
        <p:spPr>
          <a:xfrm>
            <a:off x="6372360" y="1989000"/>
            <a:ext cx="2663640" cy="2376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1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Actividades evaluativas: informes escritos, exposiciones, etc. (individual,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Examen par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2 Marcador de contenido"/>
          <p:cNvSpPr/>
          <p:nvPr/>
        </p:nvSpPr>
        <p:spPr>
          <a:xfrm>
            <a:off x="92160" y="4437000"/>
            <a:ext cx="2682720" cy="2271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3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Actividades evaluativas: controles de lectura, cuadros resumen, etc. (individual o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2 Marcador de contenido"/>
          <p:cNvSpPr/>
          <p:nvPr/>
        </p:nvSpPr>
        <p:spPr>
          <a:xfrm>
            <a:off x="2843280" y="4437000"/>
            <a:ext cx="3457440" cy="2271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xamen par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Actividades evaluativas: informes escritos, exposiciones, etc. (individual,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2 Marcador de contenido"/>
          <p:cNvSpPr/>
          <p:nvPr/>
        </p:nvSpPr>
        <p:spPr>
          <a:xfrm>
            <a:off x="6378480" y="4437000"/>
            <a:ext cx="2662200" cy="2271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1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Actividades evaluativas: informes escritos, exposiciones, etc. (individual, en equip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20%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xamen par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1196640"/>
            <a:ext cx="8928000" cy="2305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Calibri"/>
              </a:rPr>
              <a:t>1. «Dime cómo evalúas y te diré cómo enseñas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2 Marcador de contenido"/>
          <p:cNvSpPr/>
          <p:nvPr/>
        </p:nvSpPr>
        <p:spPr>
          <a:xfrm>
            <a:off x="108000" y="3645000"/>
            <a:ext cx="8928000" cy="2305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La forma cómo evaluamos (el sistema, las técnicas, los instrumentos, el informe) denota, implícitamente, nuestra práctica didáctica así como la concepción de aprendizaje que aplicamos en nuestra enseñanz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8000" y="1196640"/>
            <a:ext cx="8928000" cy="2087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2. Debe evaluarse lo que se ha aprendido, no lo que ya se sabe que no se aprendi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 Marcador de contenido"/>
          <p:cNvSpPr/>
          <p:nvPr/>
        </p:nvSpPr>
        <p:spPr>
          <a:xfrm>
            <a:off x="108000" y="3429000"/>
            <a:ext cx="8928000" cy="3313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as condiciones en las que se realiza la evaluación deben ser muy similares a las que se dieron en el proceso de aprendizaje, así como lo que se evalúa y la forma de evalu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a evaluación y el aprendizaje deben ser procesos orgánicos, no industriales ni mecánicos; por tanto, habrá que humanizarlos para no desvirtuar su verdadera naturale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00" y="1197000"/>
            <a:ext cx="8928000" cy="21607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3. La mejor forma de evaluar el aprendizaje es cuando se está dando, cuando está ocurriend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2 Marcador de contenido"/>
          <p:cNvSpPr/>
          <p:nvPr/>
        </p:nvSpPr>
        <p:spPr>
          <a:xfrm>
            <a:off x="108000" y="3500280"/>
            <a:ext cx="8928000" cy="30243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Nuestro cerebro solo puede ser estudiado e investigado mientras está funcionan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lgo muy similar pasa cuando aprendemos, sólo podemos comprender cómo se ha dado y adquirido el aprendizaje si observamos dicho proceso cuando ocurre y no a posterior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125000"/>
            <a:ext cx="8928000" cy="374364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4. Las actividades de evaluación (incluyendo los exámenes) deben considerarse, seriamente, como estrategias para aprender, antes de destinarles sólo el propósito de la obtención de not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2 Marcador de contenido"/>
          <p:cNvSpPr/>
          <p:nvPr/>
        </p:nvSpPr>
        <p:spPr>
          <a:xfrm>
            <a:off x="108000" y="4941720"/>
            <a:ext cx="8928000" cy="107964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000000"/>
                </a:solidFill>
                <a:latin typeface="Calibri"/>
              </a:rPr>
              <a:t>El error es fuente de aprendizaje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196640"/>
            <a:ext cx="8928000" cy="2376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5. Cada técnica e instrumento de evaluación están diseñados para un tipo específico de aprendizaje. Por lo que cada evaluación debe tener su técnica y su instrumento prop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 Marcador de contenido"/>
          <p:cNvSpPr/>
          <p:nvPr/>
        </p:nvSpPr>
        <p:spPr>
          <a:xfrm>
            <a:off x="108000" y="3789360"/>
            <a:ext cx="8928000" cy="2808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No se puede medir la temperatura con un estetoscop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Y, no se puede determinar una nota sólo desde las sensaciones y las percepciones, hay que dimensionar, valorar y decidir sistemáticamente, lo que implica planificar la evaluación, aplicar técnicas e instrumentos, hasta evaluar la misma evaluación (meta-evaluació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197000"/>
            <a:ext cx="8928000" cy="2016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6. La finalidad esencial de la evaluación de aprendizajes es mejorar el proceso de enseñanza-aprendizaj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2 Marcador de contenido"/>
          <p:cNvSpPr/>
          <p:nvPr/>
        </p:nvSpPr>
        <p:spPr>
          <a:xfrm>
            <a:off x="108000" y="3284640"/>
            <a:ext cx="8928000" cy="33843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La calificación es sólo una consecuencia de la aplicación del proceso, la cual debe servir para realimentar al estudiante en cuanto a lo que debe mejorar para que lo supere y sus potencialidades para que las aprovech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Las calificaciones obtenidas deben servirnos, incluso, para reorientar la misma enseñanz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ECCIONES APRENDIDAS, DESDE MI EXPERIENCIA,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OBRE LA EVALUACIÓN DE APRENDIZAJ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125000"/>
            <a:ext cx="8928000" cy="1582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7. Los mejores evaluadores son capaces de evaluarse a sí mismos de manera honesta, crítica y reflex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2 Marcador de contenido"/>
          <p:cNvSpPr/>
          <p:nvPr/>
        </p:nvSpPr>
        <p:spPr>
          <a:xfrm>
            <a:off x="108000" y="2781360"/>
            <a:ext cx="8928000" cy="39607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s inconcebible que un docente se atreva a evaluar a sus estudiantes, es decir, a otras personas, cuando no es capaz de evaluarse a sí mismo, honesta y críticamente, como persona y profes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Hay que recordar que, nuestro compromiso como docentes universitarios, es el formar y brindar a la sociedad salvadoreña los y las mejores profesionales a su servicio, y depende mucho de la evaluación que realizamos en las asignaturas así cómo del modelo de profesional y docente que vean en nosot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«El medio es el mensaje» (McLuha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«El método es, también, contenido» (Imbernó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1:10:47Z</dcterms:created>
  <dc:creator>User 02</dc:creator>
  <dc:description/>
  <dc:language>en-US</dc:language>
  <cp:lastModifiedBy>Lic Vladimir</cp:lastModifiedBy>
  <dcterms:modified xsi:type="dcterms:W3CDTF">2013-12-06T19:59:25Z</dcterms:modified>
  <cp:revision>184</cp:revision>
  <dc:subject/>
  <dc:title>Diapositiva 1</dc:title>
</cp:coreProperties>
</file>