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87BB-2DDA-4341-9510-A6DFE7FB1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BF48-547C-4067-BEEE-333161278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B7C2-38D0-467B-A418-B34BA9D85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4AA9-415D-4412-B0EA-ED69517AF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CC005-25F7-47FF-9C18-B6EDB96E9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76A71-7543-474E-B6C6-31D600E4F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532C8-78E8-4487-913C-5F96354F7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E2F96-6C26-49E0-B6F1-322AA308C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514DB-BB49-4647-8364-B08568BE4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D3CEA-A0D2-4FD8-AD19-75DEE0FF4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D4671-2E7A-4843-80AD-064B4D19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8456-9998-4D66-9A17-056A685C6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662DE-5D5B-4DEF-AE46-FDEBA15C2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8CD6A-654C-4B4B-87E1-C5F8B4715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93149-05C0-422F-9B38-8B178B2F2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98CF4-7F4F-4F0D-84F9-66D2798D2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61141-F717-4853-B7E7-EC568FE9B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29FE-F117-4B40-9482-3D8DF3820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FD26-F704-421B-BC30-4DF5DA5F7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3FE7-CB92-4B3B-9B84-9F49EEE3C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ACF3-CD68-478E-B99D-9A400F7BA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F186-4435-48A1-817C-71B4102D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5351-A61C-4A1A-8EB5-661D0AE1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6588-EB99-434C-81AB-8DAEA182F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6EC32-FCA3-4F19-9760-E9E80BADC93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A546B-14F4-4982-A0EB-191A1046D30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642160" cy="30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EVALUACIÓN DE APRENDIZAJES: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CONCEPCIÓN, TIPOLOGÍA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Y PRINCIPIOS BÁSIC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971280" y="4437000"/>
            <a:ext cx="7010280" cy="16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Javier Vladimir Quintanilla Orellan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Verdana"/>
              </a:rPr>
              <a:t>EVALUACIÓN EDUCATIVA: CONCEPTUALIZ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250920" y="1916280"/>
            <a:ext cx="8642160" cy="4681440"/>
          </a:xfrm>
          <a:prstGeom prst="octagon">
            <a:avLst>
              <a:gd name="adj" fmla="val 6551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La evaluación es el proceso de obtención de información y creación de argumentos, con los cuales propiciar la participación de individuos y grupos, en un debate crítico sobre programas específicos (Kemmis, 1986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La evaluación se orienta a la argumentación sobre las circunstancias, los problemas y los logros de los evaluados (House, Cronbach, Stake, McDonald, Simon-Kemmis) para plantear decisiones fundamentadas y/o estrategias de mejora de procesos, programas, instituciones, 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(Martínez, 2004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74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FASES DE LA EVALUACIÓN EDUCATIV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34920" y="1916280"/>
            <a:ext cx="2252520" cy="6951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A) RECOPILACIÓN DE DAT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AutoShape 12"/>
          <p:cNvSpPr/>
          <p:nvPr/>
        </p:nvSpPr>
        <p:spPr>
          <a:xfrm rot="5400000">
            <a:off x="1330560" y="2701080"/>
            <a:ext cx="852480" cy="733320"/>
          </a:xfrm>
          <a:custGeom>
            <a:avLst/>
            <a:gdLst>
              <a:gd name="textAreaLeft" fmla="*/ 0 w 852480"/>
              <a:gd name="textAreaRight" fmla="*/ 730800 w 852480"/>
              <a:gd name="textAreaTop" fmla="*/ 488880 h 733320"/>
              <a:gd name="textAreaBottom" fmla="*/ 733680 h 73332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AutoShape 13"/>
          <p:cNvSpPr/>
          <p:nvPr/>
        </p:nvSpPr>
        <p:spPr>
          <a:xfrm>
            <a:off x="2176560" y="2949480"/>
            <a:ext cx="2251080" cy="69552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B) ANÁLISIS DE INFORMA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AutoShape 14"/>
          <p:cNvSpPr/>
          <p:nvPr/>
        </p:nvSpPr>
        <p:spPr>
          <a:xfrm>
            <a:off x="4510080" y="2695680"/>
            <a:ext cx="853920" cy="733320"/>
          </a:xfrm>
          <a:custGeom>
            <a:avLst/>
            <a:gdLst>
              <a:gd name="textAreaLeft" fmla="*/ 0 w 853920"/>
              <a:gd name="textAreaRight" fmla="*/ 731880 w 853920"/>
              <a:gd name="textAreaTop" fmla="*/ 488880 h 733320"/>
              <a:gd name="textAreaBottom" fmla="*/ 733680 h 73332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AutoShape 15"/>
          <p:cNvSpPr/>
          <p:nvPr/>
        </p:nvSpPr>
        <p:spPr>
          <a:xfrm>
            <a:off x="4624560" y="1967040"/>
            <a:ext cx="2251080" cy="677880"/>
          </a:xfrm>
          <a:prstGeom prst="roundRect">
            <a:avLst>
              <a:gd name="adj" fmla="val 16667"/>
            </a:avLst>
          </a:prstGeom>
          <a:solidFill>
            <a:srgbClr val="ffbe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C) FORMULACIÓN DE CONCLUSION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AutoShape 16"/>
          <p:cNvSpPr/>
          <p:nvPr/>
        </p:nvSpPr>
        <p:spPr>
          <a:xfrm flipV="1">
            <a:off x="6915240" y="2133000"/>
            <a:ext cx="896760" cy="711000"/>
          </a:xfrm>
          <a:custGeom>
            <a:avLst/>
            <a:gdLst>
              <a:gd name="textAreaLeft" fmla="*/ 0 w 896760"/>
              <a:gd name="textAreaRight" fmla="*/ 768600 w 896760"/>
              <a:gd name="textAreaTop" fmla="*/ 474120 h 711000"/>
              <a:gd name="textAreaBottom" fmla="*/ 711360 h 71100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AutoShape 17"/>
          <p:cNvSpPr/>
          <p:nvPr/>
        </p:nvSpPr>
        <p:spPr>
          <a:xfrm>
            <a:off x="6423120" y="2895480"/>
            <a:ext cx="2252520" cy="677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D) JUICIOS DE VALOR SOBRE LO EVALUAD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AutoShape 18"/>
          <p:cNvSpPr/>
          <p:nvPr/>
        </p:nvSpPr>
        <p:spPr>
          <a:xfrm>
            <a:off x="7367760" y="3645000"/>
            <a:ext cx="517320" cy="457200"/>
          </a:xfrm>
          <a:prstGeom prst="downArrow">
            <a:avLst>
              <a:gd name="adj1" fmla="val 50065"/>
              <a:gd name="adj2" fmla="val 32500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AutoShape 19"/>
          <p:cNvSpPr/>
          <p:nvPr/>
        </p:nvSpPr>
        <p:spPr>
          <a:xfrm>
            <a:off x="6496200" y="4191120"/>
            <a:ext cx="2252520" cy="677880"/>
          </a:xfrm>
          <a:prstGeom prst="roundRect">
            <a:avLst>
              <a:gd name="adj" fmla="val 16667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E) ADOPCIÓN DE MEDID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9280" y="304920"/>
            <a:ext cx="8856720" cy="89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Verdana"/>
              </a:rPr>
              <a:t>COMPARACIÓN ENTRE INVESTIGACIÓN</a:t>
            </a:r>
            <a:br>
              <a:rPr sz="2400"/>
            </a:br>
            <a:r>
              <a:rPr b="1" lang="es-MX" sz="2400" spc="-1" strike="noStrike">
                <a:solidFill>
                  <a:srgbClr val="000000"/>
                </a:solidFill>
                <a:latin typeface="Verdana"/>
              </a:rPr>
              <a:t>Y EVALUACIÓN EDUCATIV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08000" y="1341360"/>
          <a:ext cx="8928000" cy="5343480"/>
        </p:xfrm>
        <a:graphic>
          <a:graphicData uri="http://schemas.openxmlformats.org/drawingml/2006/table">
            <a:tbl>
              <a:tblPr/>
              <a:tblGrid>
                <a:gridCol w="4464000"/>
                <a:gridCol w="4464000"/>
              </a:tblGrid>
              <a:tr h="479520"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ASES DE LA INVESTIG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1200" marR="61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f6f6f"/>
                    </a:solidFill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ASES DE LA EVALU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1200" marR="61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</a:tr>
              <a:tr h="480960"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anteamiento del proble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1200" marR="61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finición del proble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1200" marR="61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</a:tr>
              <a:tr h="479520"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ormulación de la hipóte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1200" marR="61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f6f6f"/>
                    </a:solidFill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- - - - - - - - - - - - - - - - - - 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1200" marR="61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</a:tr>
              <a:tr h="1353960"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anificación y diseño: metodología, técnicas, instrumentos, tiempos, agentes, destinatari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1200" marR="61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lanificación y diseño: metodología, técnicas, instrumentos, tiempos, agentes, destinatari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1200" marR="61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</a:tr>
              <a:tr h="959040"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jecución: recogida, análisis y tratamiento de los dat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1200" marR="61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f6f6f"/>
                    </a:solidFill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jecución: recogida, análisis y tratamiento de los dat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1200" marR="61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</a:tr>
              <a:tr h="630000"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forme: descripción y conclusion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1200" marR="61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forme: descripción y conclusion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1200" marR="61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</a:tr>
              <a:tr h="481320"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 - - - - - - - - - - - - - - - - - - 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1200" marR="61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oración del objeto evalu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1200" marR="61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</a:tr>
              <a:tr h="479160"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 - - - - - - - - - - - - - - - - - - 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1200" marR="61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ma de decis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1200" marR="61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8920" y="304560"/>
            <a:ext cx="8713800" cy="74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TIPOLOGÍA DE LA EVALU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AutoShape 11"/>
          <p:cNvSpPr/>
          <p:nvPr/>
        </p:nvSpPr>
        <p:spPr>
          <a:xfrm>
            <a:off x="324000" y="1766880"/>
            <a:ext cx="3527280" cy="50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a) POR SU FUNCIONALID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AutoShape 12"/>
          <p:cNvSpPr/>
          <p:nvPr/>
        </p:nvSpPr>
        <p:spPr>
          <a:xfrm>
            <a:off x="3851280" y="1484280"/>
            <a:ext cx="289080" cy="1224000"/>
          </a:xfrm>
          <a:custGeom>
            <a:avLst/>
            <a:gdLst>
              <a:gd name="textAreaLeft" fmla="*/ 184680 w 289080"/>
              <a:gd name="textAreaRight" fmla="*/ 289080 w 289080"/>
              <a:gd name="textAreaTop" fmla="*/ 68760 h 1224000"/>
              <a:gd name="textAreaBottom" fmla="*/ 115524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41"/>
                  <a:pt x="10800" y="3882"/>
                </a:cubicBezTo>
                <a:lnTo>
                  <a:pt x="10800" y="5225"/>
                </a:lnTo>
                <a:cubicBezTo>
                  <a:pt x="10800" y="7166"/>
                  <a:pt x="5400" y="9107"/>
                  <a:pt x="0" y="9107"/>
                </a:cubicBezTo>
                <a:cubicBezTo>
                  <a:pt x="5400" y="9107"/>
                  <a:pt x="10800" y="11048"/>
                  <a:pt x="10800" y="12989"/>
                </a:cubicBezTo>
                <a:lnTo>
                  <a:pt x="10800" y="17718"/>
                </a:lnTo>
                <a:cubicBezTo>
                  <a:pt x="10800" y="19659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AutoShape 13"/>
          <p:cNvSpPr/>
          <p:nvPr/>
        </p:nvSpPr>
        <p:spPr>
          <a:xfrm>
            <a:off x="4284720" y="1484280"/>
            <a:ext cx="2448000" cy="48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Sumativ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AutoShape 14"/>
          <p:cNvSpPr/>
          <p:nvPr/>
        </p:nvSpPr>
        <p:spPr>
          <a:xfrm>
            <a:off x="4284720" y="2252520"/>
            <a:ext cx="2448000" cy="455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Formativ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AutoShape 15"/>
          <p:cNvSpPr/>
          <p:nvPr/>
        </p:nvSpPr>
        <p:spPr>
          <a:xfrm>
            <a:off x="324000" y="4581360"/>
            <a:ext cx="3527280" cy="61920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b) POR SU NORMOTIP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AutoShape 12"/>
          <p:cNvSpPr/>
          <p:nvPr/>
        </p:nvSpPr>
        <p:spPr>
          <a:xfrm>
            <a:off x="3860640" y="3948120"/>
            <a:ext cx="287640" cy="1641600"/>
          </a:xfrm>
          <a:custGeom>
            <a:avLst/>
            <a:gdLst>
              <a:gd name="textAreaLeft" fmla="*/ 183960 w 287640"/>
              <a:gd name="textAreaRight" fmla="*/ 288000 w 287640"/>
              <a:gd name="textAreaTop" fmla="*/ 68760 h 1641600"/>
              <a:gd name="textAreaBottom" fmla="*/ 1572840 h 164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49"/>
                  <a:pt x="10800" y="2897"/>
                </a:cubicBezTo>
                <a:lnTo>
                  <a:pt x="10800" y="6210"/>
                </a:lnTo>
                <a:cubicBezTo>
                  <a:pt x="10800" y="7659"/>
                  <a:pt x="5400" y="9107"/>
                  <a:pt x="0" y="9107"/>
                </a:cubicBezTo>
                <a:cubicBezTo>
                  <a:pt x="5400" y="9107"/>
                  <a:pt x="10800" y="10556"/>
                  <a:pt x="10800" y="12004"/>
                </a:cubicBezTo>
                <a:lnTo>
                  <a:pt x="10800" y="18703"/>
                </a:lnTo>
                <a:cubicBezTo>
                  <a:pt x="10800" y="20152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4284720" y="3948120"/>
            <a:ext cx="1942920" cy="4492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Nomotét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4284720" y="5140440"/>
            <a:ext cx="1942920" cy="4492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Ideográf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6659640" y="3643200"/>
            <a:ext cx="1657440" cy="43344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Criteri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6659640" y="4292640"/>
            <a:ext cx="1657440" cy="38736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Normativ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AutoShape 12"/>
          <p:cNvSpPr/>
          <p:nvPr/>
        </p:nvSpPr>
        <p:spPr>
          <a:xfrm>
            <a:off x="6227640" y="3666960"/>
            <a:ext cx="289080" cy="986040"/>
          </a:xfrm>
          <a:custGeom>
            <a:avLst/>
            <a:gdLst>
              <a:gd name="textAreaLeft" fmla="*/ 184680 w 289080"/>
              <a:gd name="textAreaRight" fmla="*/ 289080 w 289080"/>
              <a:gd name="textAreaTop" fmla="*/ 68760 h 986040"/>
              <a:gd name="textAreaBottom" fmla="*/ 917280 h 986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09"/>
                  <a:pt x="10800" y="4817"/>
                </a:cubicBezTo>
                <a:lnTo>
                  <a:pt x="10800" y="4290"/>
                </a:lnTo>
                <a:cubicBezTo>
                  <a:pt x="10800" y="6699"/>
                  <a:pt x="5400" y="9107"/>
                  <a:pt x="0" y="9107"/>
                </a:cubicBezTo>
                <a:cubicBezTo>
                  <a:pt x="5400" y="9107"/>
                  <a:pt x="10800" y="11516"/>
                  <a:pt x="10800" y="13924"/>
                </a:cubicBezTo>
                <a:lnTo>
                  <a:pt x="10800" y="16783"/>
                </a:lnTo>
                <a:cubicBezTo>
                  <a:pt x="10800" y="19192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8920" y="304560"/>
            <a:ext cx="8713800" cy="74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TIPOLOGÍA DE LA EVALU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AutoShape 11"/>
          <p:cNvSpPr/>
          <p:nvPr/>
        </p:nvSpPr>
        <p:spPr>
          <a:xfrm>
            <a:off x="324000" y="1766880"/>
            <a:ext cx="3527280" cy="870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c) POR SU TEMPORALIZ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AutoShape 12"/>
          <p:cNvSpPr/>
          <p:nvPr/>
        </p:nvSpPr>
        <p:spPr>
          <a:xfrm>
            <a:off x="3851280" y="1484280"/>
            <a:ext cx="289080" cy="1968480"/>
          </a:xfrm>
          <a:custGeom>
            <a:avLst/>
            <a:gdLst>
              <a:gd name="textAreaLeft" fmla="*/ 184680 w 289080"/>
              <a:gd name="textAreaRight" fmla="*/ 289080 w 289080"/>
              <a:gd name="textAreaTop" fmla="*/ 68760 h 1968480"/>
              <a:gd name="textAreaBottom" fmla="*/ 1899720 h 1968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07"/>
                  <a:pt x="10800" y="2414"/>
                </a:cubicBezTo>
                <a:lnTo>
                  <a:pt x="10800" y="6215"/>
                </a:lnTo>
                <a:cubicBezTo>
                  <a:pt x="10800" y="7422"/>
                  <a:pt x="5400" y="8629"/>
                  <a:pt x="0" y="8629"/>
                </a:cubicBezTo>
                <a:cubicBezTo>
                  <a:pt x="5400" y="8629"/>
                  <a:pt x="10800" y="9836"/>
                  <a:pt x="10800" y="11043"/>
                </a:cubicBezTo>
                <a:lnTo>
                  <a:pt x="10800" y="19186"/>
                </a:lnTo>
                <a:cubicBezTo>
                  <a:pt x="10800" y="20393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AutoShape 13"/>
          <p:cNvSpPr/>
          <p:nvPr/>
        </p:nvSpPr>
        <p:spPr>
          <a:xfrm>
            <a:off x="4284720" y="1484280"/>
            <a:ext cx="2448000" cy="48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Inici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AutoShape 14"/>
          <p:cNvSpPr/>
          <p:nvPr/>
        </p:nvSpPr>
        <p:spPr>
          <a:xfrm>
            <a:off x="4284720" y="2252520"/>
            <a:ext cx="2448000" cy="455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Procesu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AutoShape 15"/>
          <p:cNvSpPr/>
          <p:nvPr/>
        </p:nvSpPr>
        <p:spPr>
          <a:xfrm>
            <a:off x="324000" y="4581360"/>
            <a:ext cx="3527280" cy="61920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d) POR SUS AGEN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AutoShape 12"/>
          <p:cNvSpPr/>
          <p:nvPr/>
        </p:nvSpPr>
        <p:spPr>
          <a:xfrm>
            <a:off x="3860640" y="3948120"/>
            <a:ext cx="287640" cy="1641600"/>
          </a:xfrm>
          <a:custGeom>
            <a:avLst/>
            <a:gdLst>
              <a:gd name="textAreaLeft" fmla="*/ 183960 w 287640"/>
              <a:gd name="textAreaRight" fmla="*/ 288000 w 287640"/>
              <a:gd name="textAreaTop" fmla="*/ 68760 h 1641600"/>
              <a:gd name="textAreaBottom" fmla="*/ 1572840 h 164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49"/>
                  <a:pt x="10800" y="2897"/>
                </a:cubicBezTo>
                <a:lnTo>
                  <a:pt x="10800" y="6210"/>
                </a:lnTo>
                <a:cubicBezTo>
                  <a:pt x="10800" y="7659"/>
                  <a:pt x="5400" y="9107"/>
                  <a:pt x="0" y="9107"/>
                </a:cubicBezTo>
                <a:cubicBezTo>
                  <a:pt x="5400" y="9107"/>
                  <a:pt x="10800" y="10556"/>
                  <a:pt x="10800" y="12004"/>
                </a:cubicBezTo>
                <a:lnTo>
                  <a:pt x="10800" y="18703"/>
                </a:lnTo>
                <a:cubicBezTo>
                  <a:pt x="10800" y="20152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AutoShape 16"/>
          <p:cNvSpPr/>
          <p:nvPr/>
        </p:nvSpPr>
        <p:spPr>
          <a:xfrm>
            <a:off x="4284720" y="3948120"/>
            <a:ext cx="2448000" cy="4492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Autoevalu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AutoShape 17"/>
          <p:cNvSpPr/>
          <p:nvPr/>
        </p:nvSpPr>
        <p:spPr>
          <a:xfrm>
            <a:off x="4284720" y="5140440"/>
            <a:ext cx="2448000" cy="4492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Heteroevalu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AutoShape 14"/>
          <p:cNvSpPr/>
          <p:nvPr/>
        </p:nvSpPr>
        <p:spPr>
          <a:xfrm>
            <a:off x="4284720" y="2997360"/>
            <a:ext cx="2448000" cy="455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Fin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AutoShape 16"/>
          <p:cNvSpPr/>
          <p:nvPr/>
        </p:nvSpPr>
        <p:spPr>
          <a:xfrm>
            <a:off x="4313160" y="4549680"/>
            <a:ext cx="2419560" cy="4492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Coevalu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42160" cy="82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EVALUACIÓN FORMATIVA Y EVALUACIÓN SUMATIV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250920" y="1341360"/>
          <a:ext cx="8569080" cy="5183280"/>
        </p:xfrm>
        <a:graphic>
          <a:graphicData uri="http://schemas.openxmlformats.org/drawingml/2006/table">
            <a:tbl>
              <a:tblPr/>
              <a:tblGrid>
                <a:gridCol w="4284720"/>
                <a:gridCol w="4284360"/>
              </a:tblGrid>
              <a:tr h="444600"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VALUACIÓN FORMAT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1200" marR="61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VALUACIÓN SUMAT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1200" marR="61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</a:tr>
              <a:tr h="890640">
                <a:tc>
                  <a:txBody>
                    <a:bodyPr lIns="61200" rIns="6120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s aplicable a la evaluación de proceso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1200" marR="61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 aplicable a la evaluación de productos terminado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1200" marR="61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</a:tr>
              <a:tr h="1336680">
                <a:tc>
                  <a:txBody>
                    <a:bodyPr lIns="61200" rIns="6120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e debe incorporar al mismo proceso de funcionamiento como un elemento integrante del mism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1200" marR="61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marL="343080" indent="-343080"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 sitúa puntualmente al final de un proceso, cuando éste se considera acabad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1200" marR="61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</a:tr>
              <a:tr h="1684080">
                <a:tc>
                  <a:txBody>
                    <a:bodyPr lIns="61200" rIns="61200" tIns="0" bIns="0" anchor="t">
                      <a:noAutofit/>
                    </a:bodyPr>
                    <a:p>
                      <a:pPr marL="343080" indent="-343080" algn="just"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u finalidad es la mejora del proceso evaluad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1200" marR="61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marL="343080" indent="-343080"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 finalidad es determinar el grado en que se han alcanzado los objetivos previstos y valorar positiva o negativamente el producto evaluad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1200" marR="61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</a:tr>
              <a:tr h="827280">
                <a:tc>
                  <a:txBody>
                    <a:bodyPr lIns="61200" rIns="61200" tIns="0" bIns="0" anchor="t">
                      <a:noAutofit/>
                    </a:bodyPr>
                    <a:p>
                      <a:pPr marL="343080" indent="-343080" algn="just"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ermite tomar medidas de carácter inmediat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1200" marR="61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marL="343080" indent="-343080"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mite tomar medidas a medio y largo plaz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1200" marR="61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42160" cy="74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PRINCIPIOS GENERALES DE LA EVALU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1 Rectángulo"/>
          <p:cNvSpPr/>
          <p:nvPr/>
        </p:nvSpPr>
        <p:spPr>
          <a:xfrm>
            <a:off x="324000" y="1996920"/>
            <a:ext cx="8496000" cy="39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La evaluación es un fenómeno moral, no meramente técnic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La evaluación ha de ser un proceso y no un acto aislad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Es preciso que la evaluación sea un proceso participativ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La evaluación tiene un componente corroborad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42160" cy="74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PRINCIPIOS GENERALES DE LA EVALU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1 Rectángulo"/>
          <p:cNvSpPr/>
          <p:nvPr/>
        </p:nvSpPr>
        <p:spPr>
          <a:xfrm>
            <a:off x="324000" y="1996920"/>
            <a:ext cx="8496000" cy="39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Para evaluar hace falta tener un conocimiento especializad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Para que la evaluación tenga rigor se han de utilizar instrumentos divers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La evaluación es un catalizador de todo el proceso de enseñanza y aprendizaj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El contenido de la evaluación ha de ser complejo y globalizad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42160" cy="74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PRINCIPIOS GENERALES DE LA EVALU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1 Rectángulo"/>
          <p:cNvSpPr/>
          <p:nvPr/>
        </p:nvSpPr>
        <p:spPr>
          <a:xfrm>
            <a:off x="324000" y="1996920"/>
            <a:ext cx="8496000" cy="39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Para evaluar hace falta tener un conocimiento especializado del proceso de enseñanza y aprendizaj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La evaluación tiene que servir para el aprendizaj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Es importante hacer meta evaluació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La evaluación no debe ser un acto individualista sino colegiad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Bibliografía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ASANOVA, M. A. (1995). </a:t>
            </a:r>
            <a:r>
              <a:rPr b="1" i="1" lang="es-ES" sz="2000" spc="-1" strike="noStrike">
                <a:solidFill>
                  <a:srgbClr val="000000"/>
                </a:solidFill>
                <a:latin typeface="Verdana"/>
              </a:rPr>
              <a:t>Manual de Evaluación Educativa.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Editorial La Muralla, S.A. Madrid, 1995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ARTÍNEZ RODRÍGUEZ, J. B. (2004). </a:t>
            </a:r>
            <a:r>
              <a:rPr b="1" i="1" lang="es-ES" sz="2000" spc="-1" strike="noStrike">
                <a:solidFill>
                  <a:srgbClr val="000000"/>
                </a:solidFill>
                <a:latin typeface="Verdana"/>
              </a:rPr>
              <a:t>La Evaluación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(pags. 23 – 49). Programa de Fortalecimiento de Formación Inicial de Docentes. MINED-AECID-Universidad de Barcelon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ONEDERO MOYA, J. J. (1998). </a:t>
            </a:r>
            <a:r>
              <a:rPr b="1" i="1" lang="es-ES" sz="2000" spc="-1" strike="noStrike">
                <a:solidFill>
                  <a:srgbClr val="000000"/>
                </a:solidFill>
                <a:latin typeface="Verdana"/>
              </a:rPr>
              <a:t>Bases teóricas de la evaluación Educativa.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Ediciones Aljibe, S.L. Málaga, 1998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8000" y="404280"/>
            <a:ext cx="8928000" cy="1729080"/>
          </a:xfrm>
          <a:prstGeom prst="rect">
            <a:avLst/>
          </a:prstGeom>
          <a:solidFill>
            <a:srgbClr val="dae0e6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66"/>
                </a:solidFill>
                <a:latin typeface="Verdana"/>
              </a:rPr>
              <a:t>1. ¿Cuáles son los tres conocimientos más importantes que aprendiste en la Universidad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1 Subtítulo"/>
          <p:cNvSpPr/>
          <p:nvPr/>
        </p:nvSpPr>
        <p:spPr>
          <a:xfrm>
            <a:off x="108000" y="2637000"/>
            <a:ext cx="8928000" cy="1296720"/>
          </a:xfrm>
          <a:prstGeom prst="rect">
            <a:avLst/>
          </a:prstGeom>
          <a:solidFill>
            <a:srgbClr val="dae0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66"/>
                </a:solidFill>
                <a:latin typeface="Verdana"/>
              </a:rPr>
              <a:t>2. ¿Por qué consideras esos conocimientos tan importante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1 Subtítulo"/>
          <p:cNvSpPr/>
          <p:nvPr/>
        </p:nvSpPr>
        <p:spPr>
          <a:xfrm>
            <a:off x="128520" y="4221000"/>
            <a:ext cx="8929800" cy="1800360"/>
          </a:xfrm>
          <a:prstGeom prst="rect">
            <a:avLst/>
          </a:prstGeom>
          <a:solidFill>
            <a:srgbClr val="dae0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66"/>
                </a:solidFill>
                <a:latin typeface="Verdana"/>
              </a:rPr>
              <a:t>3. ¿De qué manera puedes verificar o comprobar que realmente posees esos conocimiento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8000" y="404640"/>
            <a:ext cx="8928000" cy="540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es-SV" sz="2800" spc="-1" strike="noStrike">
                <a:solidFill>
                  <a:srgbClr val="ffffff"/>
                </a:solidFill>
                <a:latin typeface="Verdana"/>
              </a:rPr>
              <a:t>Nuestro problema para la comprensión</a:t>
            </a:r>
            <a:br>
              <a:rPr sz="2800"/>
            </a:br>
            <a:r>
              <a:rPr b="1" lang="es-SV" sz="2800" spc="-1" strike="noStrike">
                <a:solidFill>
                  <a:srgbClr val="ffffff"/>
                </a:solidFill>
                <a:latin typeface="Verdana"/>
              </a:rPr>
              <a:t>de la escolarización obligatoria</a:t>
            </a:r>
            <a:br>
              <a:rPr sz="2800"/>
            </a:br>
            <a:r>
              <a:rPr b="1" lang="es-SV" sz="2800" spc="-1" strike="noStrike">
                <a:solidFill>
                  <a:srgbClr val="ffffff"/>
                </a:solidFill>
                <a:latin typeface="Verdana"/>
              </a:rPr>
              <a:t>tiene su origen en un hecho inoportuno:</a:t>
            </a:r>
            <a:br>
              <a:rPr sz="2800"/>
            </a:br>
            <a:br>
              <a:rPr sz="2800"/>
            </a:br>
            <a:r>
              <a:rPr b="1" lang="es-SV" sz="2800" spc="-1" strike="noStrike">
                <a:solidFill>
                  <a:srgbClr val="ffffff"/>
                </a:solidFill>
                <a:latin typeface="Verdana"/>
              </a:rPr>
              <a:t>el daño que hace desde una perspectiva humana</a:t>
            </a:r>
            <a:br>
              <a:rPr sz="2800"/>
            </a:br>
            <a:br>
              <a:rPr sz="2800"/>
            </a:br>
            <a:r>
              <a:rPr b="1" lang="es-SV" sz="2800" spc="-1" strike="noStrike">
                <a:solidFill>
                  <a:srgbClr val="ffffff"/>
                </a:solidFill>
                <a:latin typeface="Verdana"/>
              </a:rPr>
              <a:t>es un bien desde una perspectiva de sistema” </a:t>
            </a:r>
            <a:br>
              <a:rPr sz="2800"/>
            </a:br>
            <a:br>
              <a:rPr sz="3600"/>
            </a:br>
            <a:r>
              <a:rPr b="0" lang="es-SV" sz="2000" spc="-1" strike="noStrike">
                <a:solidFill>
                  <a:srgbClr val="ffffff"/>
                </a:solidFill>
                <a:latin typeface="Verdana"/>
              </a:rPr>
              <a:t>(John Taylor G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8000" y="404280"/>
            <a:ext cx="8928000" cy="453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4000" spc="-1" strike="noStrike">
                <a:solidFill>
                  <a:srgbClr val="ffff99"/>
                </a:solidFill>
                <a:latin typeface="Verdana"/>
              </a:rPr>
              <a:t>“</a:t>
            </a:r>
            <a:r>
              <a:rPr b="1" lang="es-SV" sz="4000" spc="-1" strike="noStrike">
                <a:solidFill>
                  <a:srgbClr val="ffff99"/>
                </a:solidFill>
                <a:latin typeface="Verdana"/>
              </a:rPr>
              <a:t>El propósito más importante</a:t>
            </a:r>
            <a:br>
              <a:rPr sz="4000"/>
            </a:br>
            <a:r>
              <a:rPr b="1" lang="es-SV" sz="4000" spc="-1" strike="noStrike">
                <a:solidFill>
                  <a:srgbClr val="ffff99"/>
                </a:solidFill>
                <a:latin typeface="Verdana"/>
              </a:rPr>
              <a:t>de la evaluación</a:t>
            </a:r>
            <a:br>
              <a:rPr sz="4000"/>
            </a:br>
            <a:r>
              <a:rPr b="1" lang="es-SV" sz="4000" spc="-1" strike="noStrike">
                <a:solidFill>
                  <a:srgbClr val="ffff99"/>
                </a:solidFill>
                <a:latin typeface="Verdana"/>
              </a:rPr>
              <a:t>no es demostrar,</a:t>
            </a:r>
            <a:br>
              <a:rPr sz="4000"/>
            </a:br>
            <a:r>
              <a:rPr b="1" lang="es-SV" sz="4000" spc="-1" strike="noStrike">
                <a:solidFill>
                  <a:srgbClr val="ffff99"/>
                </a:solidFill>
                <a:latin typeface="Verdana"/>
              </a:rPr>
              <a:t>sino perfeccionar...” </a:t>
            </a:r>
            <a:br>
              <a:rPr sz="4000"/>
            </a:br>
            <a:br>
              <a:rPr sz="2800"/>
            </a:br>
            <a:r>
              <a:rPr b="0" lang="es-SV" sz="2000" spc="-1" strike="noStrike">
                <a:solidFill>
                  <a:srgbClr val="ffffff"/>
                </a:solidFill>
                <a:latin typeface="Verdana"/>
              </a:rPr>
              <a:t>(Stufflebeam, D.L. - Shinkfield, AJ.; 1987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CONCEPTOS BÁSICOS IMPRESCINDIBL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792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t">
            <a:normAutofit/>
          </a:bodyPr>
          <a:p>
            <a:pPr marL="5716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Verdana"/>
              </a:rPr>
              <a:t>[ ENSEÑAR ]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250920" y="1930320"/>
            <a:ext cx="4033800" cy="2830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= Orientar y dirigi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ética, </a:t>
            </a:r>
            <a:r>
              <a:rPr b="1" lang="es-MX" sz="2800" spc="-1" strike="noStrike">
                <a:solidFill>
                  <a:srgbClr val="000000"/>
                </a:solidFill>
                <a:latin typeface="Verdana"/>
              </a:rPr>
              <a:t>sistemátic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y adecuadamen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el proceso 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Verdana"/>
              </a:rPr>
              <a:t>aprendizaj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5364000" y="1628640"/>
            <a:ext cx="3672000" cy="2232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[Planificar] +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[Aplicar una metodología adecuada] +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EVALUAR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2 Flecha derecha"/>
          <p:cNvSpPr/>
          <p:nvPr/>
        </p:nvSpPr>
        <p:spPr>
          <a:xfrm>
            <a:off x="3795840" y="2349360"/>
            <a:ext cx="1568160" cy="77328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ffffff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74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CONCEPTOS BÁSICOS IMPRESCINDIBLES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AutoShape 8"/>
          <p:cNvSpPr/>
          <p:nvPr/>
        </p:nvSpPr>
        <p:spPr>
          <a:xfrm>
            <a:off x="250920" y="1197000"/>
            <a:ext cx="8353440" cy="79200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Verdana"/>
              </a:rPr>
              <a:t>[ APRENDIZAJE ]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AutoShape 9"/>
          <p:cNvSpPr/>
          <p:nvPr/>
        </p:nvSpPr>
        <p:spPr>
          <a:xfrm>
            <a:off x="250920" y="2065320"/>
            <a:ext cx="8353440" cy="460368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Verdana"/>
              </a:rPr>
              <a:t>= Proceso mediante el cual se genera un cambio relativamente permanente en los conocimientos o en la conducta por medio de una experiencia significativa y gratificante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8000" y="304560"/>
            <a:ext cx="8928000" cy="74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EVALUACIÓN EDUCATIVA ≠ EVALUACIÓN DE APRENDIZAJ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214200" y="3105000"/>
            <a:ext cx="3961080" cy="122400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EVALUACIÓN EDUCATIV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1 Rectángulo redondeado"/>
          <p:cNvSpPr/>
          <p:nvPr/>
        </p:nvSpPr>
        <p:spPr>
          <a:xfrm>
            <a:off x="157320" y="1268280"/>
            <a:ext cx="2506680" cy="9367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Verdana"/>
              </a:rPr>
              <a:t>EVALUACIÓN INSTITUCION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5 Rectángulo redondeado"/>
          <p:cNvSpPr/>
          <p:nvPr/>
        </p:nvSpPr>
        <p:spPr>
          <a:xfrm>
            <a:off x="2987640" y="1557360"/>
            <a:ext cx="4392720" cy="86364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Verdana"/>
              </a:rPr>
              <a:t>EVALUACIÓN DEL DESEMPEÑO PROFESIONAL DOCEN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6 Rectángulo redondeado"/>
          <p:cNvSpPr/>
          <p:nvPr/>
        </p:nvSpPr>
        <p:spPr>
          <a:xfrm>
            <a:off x="157320" y="5272200"/>
            <a:ext cx="2506680" cy="8935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Verdana"/>
              </a:rPr>
              <a:t>EVALUACIÓN DE CURRÍCULL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7 Rectángulo redondeado"/>
          <p:cNvSpPr/>
          <p:nvPr/>
        </p:nvSpPr>
        <p:spPr>
          <a:xfrm>
            <a:off x="3132000" y="5121360"/>
            <a:ext cx="4392720" cy="79200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Verdana"/>
              </a:rPr>
              <a:t>EVALUACIÓN DE RECURSOS Y MATERIALES EDUCATIV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8 Rectángulo redondeado"/>
          <p:cNvSpPr/>
          <p:nvPr/>
        </p:nvSpPr>
        <p:spPr>
          <a:xfrm>
            <a:off x="5184720" y="3141720"/>
            <a:ext cx="3851280" cy="115092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Verdana"/>
              </a:rPr>
              <a:t>EVALUACIÓN DE APRENDIZAJ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2 Flecha arriba"/>
          <p:cNvSpPr/>
          <p:nvPr/>
        </p:nvSpPr>
        <p:spPr>
          <a:xfrm>
            <a:off x="1168560" y="2255760"/>
            <a:ext cx="484200" cy="812880"/>
          </a:xfrm>
          <a:prstGeom prst="upArrow">
            <a:avLst>
              <a:gd name="adj1" fmla="val 50000"/>
              <a:gd name="adj2" fmla="val 50007"/>
            </a:avLst>
          </a:prstGeom>
          <a:solidFill>
            <a:srgbClr val="ffffff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10 Flecha arriba"/>
          <p:cNvSpPr/>
          <p:nvPr/>
        </p:nvSpPr>
        <p:spPr>
          <a:xfrm rot="1902600">
            <a:off x="3873240" y="2414160"/>
            <a:ext cx="485640" cy="812880"/>
          </a:xfrm>
          <a:prstGeom prst="upArrow">
            <a:avLst>
              <a:gd name="adj1" fmla="val 50000"/>
              <a:gd name="adj2" fmla="val 50021"/>
            </a:avLst>
          </a:prstGeom>
          <a:solidFill>
            <a:srgbClr val="ffffff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11 Flecha arriba"/>
          <p:cNvSpPr/>
          <p:nvPr/>
        </p:nvSpPr>
        <p:spPr>
          <a:xfrm rot="5400000">
            <a:off x="4475880" y="3310560"/>
            <a:ext cx="484200" cy="812880"/>
          </a:xfrm>
          <a:prstGeom prst="upArrow">
            <a:avLst>
              <a:gd name="adj1" fmla="val 50000"/>
              <a:gd name="adj2" fmla="val 50007"/>
            </a:avLst>
          </a:prstGeom>
          <a:solidFill>
            <a:srgbClr val="ffffff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13 Flecha arriba"/>
          <p:cNvSpPr/>
          <p:nvPr/>
        </p:nvSpPr>
        <p:spPr>
          <a:xfrm rot="8955000">
            <a:off x="3839760" y="4276440"/>
            <a:ext cx="485640" cy="814320"/>
          </a:xfrm>
          <a:prstGeom prst="upArrow">
            <a:avLst>
              <a:gd name="adj1" fmla="val 50000"/>
              <a:gd name="adj2" fmla="val 50009"/>
            </a:avLst>
          </a:prstGeom>
          <a:solidFill>
            <a:srgbClr val="ffffff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15 Flecha arriba"/>
          <p:cNvSpPr/>
          <p:nvPr/>
        </p:nvSpPr>
        <p:spPr>
          <a:xfrm rot="10800000">
            <a:off x="1168200" y="4387680"/>
            <a:ext cx="484200" cy="812880"/>
          </a:xfrm>
          <a:prstGeom prst="upArrow">
            <a:avLst>
              <a:gd name="adj1" fmla="val 50000"/>
              <a:gd name="adj2" fmla="val 50007"/>
            </a:avLst>
          </a:prstGeom>
          <a:solidFill>
            <a:srgbClr val="ffffff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Verdana"/>
              </a:rPr>
              <a:t>EVALUACIÓN EDUCATIVA: CONCEPTUALIZ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AutoShape 5"/>
          <p:cNvSpPr/>
          <p:nvPr/>
        </p:nvSpPr>
        <p:spPr>
          <a:xfrm>
            <a:off x="250920" y="1916280"/>
            <a:ext cx="8642160" cy="4681440"/>
          </a:xfrm>
          <a:prstGeom prst="octagon">
            <a:avLst>
              <a:gd name="adj" fmla="val 8412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Proceso sistemático y riguroso de obtención de datos, incorporado al proceso educativo desde su comienzo, de manera que sea posible disponer de información continua y significativa para conocer la situación, formar juicios de valor con respecto a ella y tomar las decisiones adecuadas para proseguir la actividad educativa mejorándola progresivamen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(Casanova, 1995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Verdana"/>
              </a:rPr>
              <a:t>EVALUACIÓN EDUCATIVA: CONCEPTUALIZ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AutoShape 5"/>
          <p:cNvSpPr/>
          <p:nvPr/>
        </p:nvSpPr>
        <p:spPr>
          <a:xfrm>
            <a:off x="250920" y="1916280"/>
            <a:ext cx="8642160" cy="4681440"/>
          </a:xfrm>
          <a:prstGeom prst="octagon">
            <a:avLst>
              <a:gd name="adj" fmla="val 8181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Proceso de obtención de información rigurosa y sistemática para contar con datos válidos y fiables acerca de una situación con objeto de formar y emitir un juicio de valor con respecto a ella. Estas valoraciones permitirán tomar las decisiones consecuentes en orden a corregir o mejorar la situación evalua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(Monedero, 1998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9T21:10:47Z</dcterms:created>
  <dc:creator>User 02</dc:creator>
  <dc:description/>
  <dc:language>en-US</dc:language>
  <cp:lastModifiedBy>Lic Vladimir</cp:lastModifiedBy>
  <dcterms:modified xsi:type="dcterms:W3CDTF">2014-01-24T20:40:34Z</dcterms:modified>
  <cp:revision>62</cp:revision>
  <dc:subject/>
  <dc:title>Diapositiva 1</dc:title>
</cp:coreProperties>
</file>