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CDD-4ADF-4CE6-9129-C244D1E3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481-FEF6-4BAC-B481-7883C178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437-5718-4801-B9DB-21A01F2B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84A-CD8C-4D24-A0A2-5CC58BF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5F8-AA29-40A7-A7AE-12007CB8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21BE-5045-476E-B662-19AC840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0011-665B-43B0-B652-C2EF9C5E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01CC-52ED-4D8E-8D86-C1524FD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0A7-A91F-41CD-83D5-D5A3414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3C76-32C5-4085-816C-BEB3F72C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CE2F-6B53-47D0-A154-B680B0B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E66-2885-41FF-91B2-AA8C156D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DC2-CF40-4085-A4D0-50E2BDE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2853-A005-4F3E-B537-EB33EB5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4F88-A19F-43C7-8F41-1703AD2A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E694-23EA-4601-A390-FA9D3CCD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631A-6EEB-46CA-8061-23CB77A9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7A2B-012E-45BD-AF2F-96CC293F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FB2F-C88E-40FD-9408-9793C9A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D798-0C01-4586-AC12-86D9C647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AD7D-F8FA-42A4-90DE-6DE9CCCB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ED12-9CE5-4C72-9CBA-A9A24E6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6EF-FDB3-4C02-90D0-36021A5A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21AA-FC11-49CF-AD2D-0407C06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316E-41FE-413B-8F04-7EBB3D7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4009-1D5E-444D-94EB-216CC9C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7126-F151-45B4-B526-A90C663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6A9FD-7A3E-4D9D-8C32-E5B478A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656B-A573-4B3A-9D47-01A89E4D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9AA1-CFD8-4586-907F-CCFBD91D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D7260-B0F7-4CE1-A571-98976BAF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8389-C80D-4CCD-9313-21A2CE5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8C25-93DA-45C1-AB0C-CC81CCF0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D12-5423-4AE6-B544-C1AF4DE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A879-B4B7-45FD-BB11-0B81F7F7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71C3-4AF3-4DB6-A659-A286C7A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9B6B-367E-4E42-8F77-1FA2CD32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90B7-8110-448D-8EBD-70651B5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7BEB-F13A-4159-8CF4-4A229A6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D86F-F95F-44FE-B69E-A2D0CA7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C136-22FA-431A-97AE-1322FEA6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979A-96E6-4ECB-885F-847689A0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8FD1-B4A8-416B-8DDE-616A50C7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71BD-ECA3-4E02-B3B6-6D68BDAE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7DB-D79B-4112-A70B-EEABABE6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6F55-8DDE-4798-A3BA-84B7A0E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DA178-7517-4236-9D0D-9BF226B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D84C6-911D-46EB-A3AB-940173FB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BAF6-F8B3-4A1A-B9B3-61C47DC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CD2F-E65A-4009-907E-CF0A078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B4120-0D90-4194-9404-A150026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C97E-7872-46F0-BEC0-BEC856C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73BA-90C1-442C-A6A2-4BBC354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8689-6284-4BC8-BA19-0CFC65D5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0903-E276-4E9D-B128-F2B7EF89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38D-2D18-4834-9521-CBDA614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4D90-68B4-47EC-AA45-6C6D534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F9123-9B2D-4846-8366-5769DBBA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EA5B-5F08-4983-9F2E-8FCD4F4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1C6B-D800-4960-85E7-1B2DCCB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F4904-3226-4024-90B8-C6728EE7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6053-DBBD-4B3A-B1C7-A072302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801E-D650-4951-A34F-8381BAEE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0D6B-D134-4C12-B9CC-7DC7C6A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E444-F23A-4358-981F-7072F9AB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6B665-1F6B-433E-A865-BBCA014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3A2-286E-4492-8905-CA2D2C0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2C7F-060B-47BC-A650-B0248EF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6DDC0-9632-49A7-9635-6B09C058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A917-5F9E-4C3F-96BA-1726443A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C4E9-03AD-4AAD-AB25-C686E7EC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65278-639F-48BC-A76F-4FAB4BA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9A90-E9B9-4272-A21F-FB4451B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50B43-EF47-4A97-941B-27EDFF9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197C-6F22-4334-9631-A577E1D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A071-823D-4B3B-BDE9-82F27A1C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6BFC-8BD8-421A-A3EE-81D3209A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566-2BDB-4EFE-AC77-1002DF4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7351-2852-4ECE-94E8-99D92BE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5A2AA-B5AC-472D-BA54-A2DAF84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3902C-5062-4CB1-8BC1-4A1EA00E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75832-73F5-4A52-B7FE-717500B2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BF42-B045-44D4-A52D-6A1EC19A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AA3-AADF-48ED-AA1F-A7EC280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DDD2-AAE3-4599-84D9-88B5A8B9A8C3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F149-6769-4B59-B7CF-0D7A8B49DC6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D736-C48A-4BB2-85F8-A17B73CBA718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F46-DD4D-4852-943E-1FD5276912B3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C618-6FDF-4DD8-8531-F2FFEF79C6E8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5043-C394-45F5-994A-5EF30C78232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447C-6E00-41CF-A491-1FE39C993E2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1557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2314"/>
                </a:solidFill>
                <a:latin typeface="Gill Sans MT"/>
              </a:rPr>
              <a:t>ORIENTACIONES ESENCIALES PARA LA PLANIFICACIÓN DIDÁCTICA:</a:t>
            </a:r>
            <a:br>
              <a:rPr sz="4000"/>
            </a:br>
            <a:r>
              <a:rPr b="1" lang="es-ES" sz="4000" spc="-1" strike="noStrike">
                <a:solidFill>
                  <a:srgbClr val="572314"/>
                </a:solidFill>
                <a:latin typeface="Gill Sans MT"/>
              </a:rPr>
              <a:t>Diseñar, sistematizar, operativizar y dinamizar los procesos de aprendizaj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42560" y="537336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20e04"/>
                </a:solidFill>
                <a:latin typeface="Gill Sans MT"/>
              </a:rPr>
              <a:t>Javier Vladimir Quintanilla Orella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72314"/>
                </a:solidFill>
                <a:latin typeface="Bookman Old Style"/>
              </a:rPr>
              <a:t>IMPLICACIONES EDUCATIVA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5 Rectángulo"/>
          <p:cNvSpPr/>
          <p:nvPr/>
        </p:nvSpPr>
        <p:spPr>
          <a:xfrm>
            <a:off x="179280" y="1052640"/>
            <a:ext cx="8856720" cy="520560"/>
          </a:xfrm>
          <a:prstGeom prst="rect">
            <a:avLst/>
          </a:prstGeom>
          <a:solidFill>
            <a:srgbClr val="6116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man Old Style"/>
              </a:rPr>
              <a:t>El/La docente deb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6 Rectángulo"/>
          <p:cNvSpPr/>
          <p:nvPr/>
        </p:nvSpPr>
        <p:spPr>
          <a:xfrm>
            <a:off x="3419640" y="156204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Aceptar las actitudes, sentimientos e ideas de sus estudiantes como expresiones legítimas de su persona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7 Rectángulo"/>
          <p:cNvSpPr/>
          <p:nvPr/>
        </p:nvSpPr>
        <p:spPr>
          <a:xfrm>
            <a:off x="3419640" y="2997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reer que la experiencia continuada es capaz de conducirnos desde el error a la verdad, y que el aprendizaje es un proceso continuo de mej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8 Rectángulo"/>
          <p:cNvSpPr/>
          <p:nvPr/>
        </p:nvSpPr>
        <p:spPr>
          <a:xfrm>
            <a:off x="3419640" y="443700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rear el clima necesario para aceptar al estudiante como es, dejar que se exprese libremente y animarlo a la particip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9 Rectángulo"/>
          <p:cNvSpPr/>
          <p:nvPr/>
        </p:nvSpPr>
        <p:spPr>
          <a:xfrm>
            <a:off x="3394080" y="58644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vitar una actitud autorita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9" descr="http://1.bp.blogspot.com/-ser0AzsXAfs/T429ehsX_aI/AAAAAAAAAX0/Kf2TafUT7Iw/s1600/Profesor%2Bdando%2Bpaso%2Ba%2Bun%2Balumno.jpg"/>
          <p:cNvPicPr/>
          <p:nvPr/>
        </p:nvPicPr>
        <p:blipFill>
          <a:blip r:embed="rId1"/>
          <a:stretch/>
        </p:blipFill>
        <p:spPr>
          <a:xfrm>
            <a:off x="0" y="1628640"/>
            <a:ext cx="3367080" cy="2692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http://comunidad.udistrital.edu.co/flrodriguezh/files/2011/12/PICT0005-1024x768.jpg"/>
          <p:cNvPicPr/>
          <p:nvPr/>
        </p:nvPicPr>
        <p:blipFill>
          <a:blip r:embed="rId2"/>
          <a:stretch/>
        </p:blipFill>
        <p:spPr>
          <a:xfrm>
            <a:off x="0" y="4365720"/>
            <a:ext cx="33670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solidFill>
            <a:srgbClr val="637f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man Old Style"/>
              </a:rPr>
              <a:t>ENFOQUE DE PROCESO DIDÁCTICO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4 Elipse"/>
          <p:cNvSpPr/>
          <p:nvPr/>
        </p:nvSpPr>
        <p:spPr>
          <a:xfrm>
            <a:off x="179280" y="1459080"/>
            <a:ext cx="3097440" cy="674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Gill Sans MT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5 Llamada de flecha a la izquierda"/>
          <p:cNvSpPr/>
          <p:nvPr/>
        </p:nvSpPr>
        <p:spPr>
          <a:xfrm>
            <a:off x="3276720" y="1387440"/>
            <a:ext cx="5759280" cy="746280"/>
          </a:xfrm>
          <a:prstGeom prst="leftArrowCallout">
            <a:avLst>
              <a:gd name="adj1" fmla="val 25002"/>
              <a:gd name="adj2" fmla="val 25000"/>
              <a:gd name="adj3" fmla="val 25010"/>
              <a:gd name="adj4" fmla="val 89953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ill Sans MT"/>
              </a:rPr>
              <a:t>Actividades para dar sentido, plantear problemas, crear conflicto cognitivo (videos, películas, canciones, lecturas breves interesantes e impresionantes, pregunta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6 Entrada manual"/>
          <p:cNvSpPr/>
          <p:nvPr/>
        </p:nvSpPr>
        <p:spPr>
          <a:xfrm>
            <a:off x="179280" y="2133720"/>
            <a:ext cx="3068640" cy="1008000"/>
          </a:xfrm>
          <a:prstGeom prst="flowChartManualInput">
            <a:avLst/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b1d15"/>
                </a:solidFill>
                <a:latin typeface="Gill Sans MT"/>
              </a:rPr>
              <a:t>PROCESAMIENTO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10 Llamada de flecha a la izquierda"/>
          <p:cNvSpPr/>
          <p:nvPr/>
        </p:nvSpPr>
        <p:spPr>
          <a:xfrm>
            <a:off x="3276720" y="2251080"/>
            <a:ext cx="5759280" cy="746280"/>
          </a:xfrm>
          <a:prstGeom prst="leftArrowCallout">
            <a:avLst>
              <a:gd name="adj1" fmla="val 25002"/>
              <a:gd name="adj2" fmla="val 25000"/>
              <a:gd name="adj3" fmla="val 25010"/>
              <a:gd name="adj4" fmla="val 89953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Gill Sans MT"/>
              </a:rPr>
              <a:t>Estrategias que posibiliten la asimilación y la comprensión del contenido conceptual: ponencias, lectura sistemática, cuadro resumen, mapa conceptual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7 Rectángulo redondeado"/>
          <p:cNvSpPr/>
          <p:nvPr/>
        </p:nvSpPr>
        <p:spPr>
          <a:xfrm>
            <a:off x="179280" y="3352680"/>
            <a:ext cx="3097440" cy="723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b1d15"/>
                </a:solidFill>
                <a:latin typeface="Gill Sans MT"/>
              </a:rPr>
              <a:t>APL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12 Llamada de flecha a la izquierda"/>
          <p:cNvSpPr/>
          <p:nvPr/>
        </p:nvSpPr>
        <p:spPr>
          <a:xfrm>
            <a:off x="3276720" y="3332160"/>
            <a:ext cx="5759280" cy="74448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89953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ill Sans MT"/>
              </a:rPr>
              <a:t>Estrategias o procedimientos que permitan aplicar el contenido conceptual por medio de la experimentación, el diseño y la elaboración, ejercicios prácticos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9 Documento"/>
          <p:cNvSpPr/>
          <p:nvPr/>
        </p:nvSpPr>
        <p:spPr>
          <a:xfrm>
            <a:off x="179280" y="4330800"/>
            <a:ext cx="3097440" cy="89856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b1d15"/>
                </a:solidFill>
                <a:latin typeface="Gill Sans MT"/>
              </a:rPr>
              <a:t>SOCI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15 Llamada de flecha a la izquierda"/>
          <p:cNvSpPr/>
          <p:nvPr/>
        </p:nvSpPr>
        <p:spPr>
          <a:xfrm>
            <a:off x="3276720" y="4340160"/>
            <a:ext cx="5759280" cy="74448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89953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Gill Sans MT"/>
              </a:rPr>
              <a:t>Puesta en común, publicación o demostración de lo aprendido con el fin de compartirlo socialm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39 Llamada de flecha a la izquierda"/>
          <p:cNvSpPr/>
          <p:nvPr/>
        </p:nvSpPr>
        <p:spPr>
          <a:xfrm>
            <a:off x="3295800" y="5299200"/>
            <a:ext cx="5759280" cy="1396800"/>
          </a:xfrm>
          <a:prstGeom prst="leftArrowCallout">
            <a:avLst>
              <a:gd name="adj1" fmla="val 25002"/>
              <a:gd name="adj2" fmla="val 18208"/>
              <a:gd name="adj3" fmla="val 25006"/>
              <a:gd name="adj4" fmla="val 89953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ill Sans MT"/>
              </a:rPr>
              <a:t>Estrategias, procedimientos e instrumentos que permitan no sólo verificar el cumplimiento de objetivos o asimilación de contenidos conceptuales, sino, también,  mejorar el proceso tomando en cuenta los indicadores de logros de los contenidos procedimentales y actitudinal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14342 Proceso alternativo"/>
          <p:cNvSpPr/>
          <p:nvPr/>
        </p:nvSpPr>
        <p:spPr>
          <a:xfrm>
            <a:off x="179280" y="774720"/>
            <a:ext cx="8785440" cy="422280"/>
          </a:xfrm>
          <a:prstGeom prst="flowChartAlternateProcess">
            <a:avLst/>
          </a:prstGeom>
          <a:solidFill>
            <a:srgbClr val="d0e4a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Gill Sans MT"/>
              </a:rPr>
              <a:t>ELEMENTOS DEL PRO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14343 Hexágono"/>
          <p:cNvSpPr/>
          <p:nvPr/>
        </p:nvSpPr>
        <p:spPr>
          <a:xfrm>
            <a:off x="179280" y="5589720"/>
            <a:ext cx="3116520" cy="79200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232d4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ill Sans MT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solidFill>
            <a:srgbClr val="637f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man Old Style"/>
              </a:rPr>
              <a:t>ENFOQUE DE PROCESO DIDÁCTICO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4 Elipse"/>
          <p:cNvSpPr/>
          <p:nvPr/>
        </p:nvSpPr>
        <p:spPr>
          <a:xfrm>
            <a:off x="2627280" y="1268280"/>
            <a:ext cx="3097080" cy="675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Gill Sans MT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6 Entrada manual"/>
          <p:cNvSpPr/>
          <p:nvPr/>
        </p:nvSpPr>
        <p:spPr>
          <a:xfrm>
            <a:off x="2627280" y="2205000"/>
            <a:ext cx="3068640" cy="936720"/>
          </a:xfrm>
          <a:prstGeom prst="flowChartManualInput">
            <a:avLst/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b1d15"/>
                </a:solidFill>
                <a:latin typeface="Gill Sans MT"/>
              </a:rPr>
              <a:t>PROCESAMIENTO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7 Rectángulo redondeado"/>
          <p:cNvSpPr/>
          <p:nvPr/>
        </p:nvSpPr>
        <p:spPr>
          <a:xfrm>
            <a:off x="2597040" y="3497400"/>
            <a:ext cx="3097440" cy="723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b1d15"/>
                </a:solidFill>
                <a:latin typeface="Gill Sans MT"/>
              </a:rPr>
              <a:t>APL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9 Documento"/>
          <p:cNvSpPr/>
          <p:nvPr/>
        </p:nvSpPr>
        <p:spPr>
          <a:xfrm>
            <a:off x="2597040" y="4546440"/>
            <a:ext cx="3097440" cy="898560"/>
          </a:xfrm>
          <a:prstGeom prst="flowChartDocument">
            <a:avLst/>
          </a:prstGeom>
          <a:solidFill>
            <a:srgbClr val="fed46c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b1d15"/>
                </a:solidFill>
                <a:latin typeface="Gill Sans MT"/>
              </a:rPr>
              <a:t>SOCI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14342 Proceso alternativo"/>
          <p:cNvSpPr/>
          <p:nvPr/>
        </p:nvSpPr>
        <p:spPr>
          <a:xfrm>
            <a:off x="179280" y="774720"/>
            <a:ext cx="8785440" cy="422280"/>
          </a:xfrm>
          <a:prstGeom prst="flowChartAlternateProcess">
            <a:avLst/>
          </a:prstGeom>
          <a:solidFill>
            <a:srgbClr val="d0e4a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Gill Sans MT"/>
              </a:rPr>
              <a:t>DINÁMICA DEL PROCESO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14343 Hexágono"/>
          <p:cNvSpPr/>
          <p:nvPr/>
        </p:nvSpPr>
        <p:spPr>
          <a:xfrm>
            <a:off x="2587680" y="5732640"/>
            <a:ext cx="3116160" cy="79200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232d4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ill Sans MT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92" name="14 Conector recto de flecha"/>
          <p:cNvCxnSpPr/>
          <p:nvPr/>
        </p:nvCxnSpPr>
        <p:spPr>
          <a:xfrm>
            <a:off x="4140000" y="1936800"/>
            <a:ext cx="1080" cy="34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28 Conector recto de flecha"/>
          <p:cNvCxnSpPr/>
          <p:nvPr/>
        </p:nvCxnSpPr>
        <p:spPr>
          <a:xfrm>
            <a:off x="4140000" y="3160440"/>
            <a:ext cx="1080" cy="34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29 Conector recto de flecha"/>
          <p:cNvCxnSpPr/>
          <p:nvPr/>
        </p:nvCxnSpPr>
        <p:spPr>
          <a:xfrm>
            <a:off x="4140000" y="4221000"/>
            <a:ext cx="1080" cy="340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30 Conector recto de flecha"/>
          <p:cNvCxnSpPr/>
          <p:nvPr/>
        </p:nvCxnSpPr>
        <p:spPr>
          <a:xfrm>
            <a:off x="4140000" y="5394240"/>
            <a:ext cx="1080" cy="339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25 Conector recto"/>
          <p:cNvSpPr/>
          <p:nvPr/>
        </p:nvSpPr>
        <p:spPr>
          <a:xfrm flipH="1">
            <a:off x="1763280" y="6129360"/>
            <a:ext cx="824040" cy="0"/>
          </a:xfrm>
          <a:prstGeom prst="line">
            <a:avLst/>
          </a:prstGeom>
          <a:ln w="31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27 Conector recto"/>
          <p:cNvSpPr/>
          <p:nvPr/>
        </p:nvSpPr>
        <p:spPr>
          <a:xfrm flipV="1">
            <a:off x="1763640" y="285264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98" name="14336 Conector recto de flecha"/>
          <p:cNvCxnSpPr/>
          <p:nvPr/>
        </p:nvCxnSpPr>
        <p:spPr>
          <a:xfrm>
            <a:off x="1763280" y="2852280"/>
            <a:ext cx="82476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399" name="37 Conector recto de flecha"/>
          <p:cNvCxnSpPr/>
          <p:nvPr/>
        </p:nvCxnSpPr>
        <p:spPr>
          <a:xfrm>
            <a:off x="1763280" y="3860280"/>
            <a:ext cx="82476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00" name="38 Conector recto de flecha"/>
          <p:cNvCxnSpPr/>
          <p:nvPr/>
        </p:nvCxnSpPr>
        <p:spPr>
          <a:xfrm>
            <a:off x="1763280" y="5013000"/>
            <a:ext cx="824760" cy="1080"/>
          </a:xfrm>
          <a:prstGeom prst="straightConnector1">
            <a:avLst/>
          </a:prstGeom>
          <a:ln w="3168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01" name="40 Conector recto de flecha"/>
          <p:cNvCxnSpPr/>
          <p:nvPr/>
        </p:nvCxnSpPr>
        <p:spPr>
          <a:xfrm>
            <a:off x="5703480" y="6129000"/>
            <a:ext cx="1245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2" name="42 Elipse"/>
          <p:cNvSpPr/>
          <p:nvPr/>
        </p:nvSpPr>
        <p:spPr>
          <a:xfrm>
            <a:off x="6973920" y="5810400"/>
            <a:ext cx="1990800" cy="63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a6d7d"/>
                </a:solidFill>
                <a:latin typeface="Gill Sans MT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Gill Sans MT"/>
              </a:rPr>
              <a:t>Bibliografí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GER, R. F. (1985). </a:t>
            </a:r>
            <a:r>
              <a:rPr b="1" i="1" lang="es-ES" sz="2800" spc="-1" strike="noStrike">
                <a:solidFill>
                  <a:srgbClr val="000000"/>
                </a:solidFill>
                <a:latin typeface="Gill Sans MT"/>
              </a:rPr>
              <a:t>Desarrollo de actitudes hacia la enseñanza (3ª Ed.)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Editorial Martínez Roca. Barcelona. 200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VAK, J. D. – GOWIN, D. B. (1988). </a:t>
            </a:r>
            <a:r>
              <a:rPr b="1" i="1" lang="es-ES" sz="2800" spc="-1" strike="noStrike">
                <a:solidFill>
                  <a:srgbClr val="000000"/>
                </a:solidFill>
                <a:latin typeface="Gill Sans MT"/>
              </a:rPr>
              <a:t>Aprendiendo a prender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Editorial Martínez Roca. Barcelona, 19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42560" y="1989000"/>
            <a:ext cx="789156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Gill Sans MT"/>
              </a:rPr>
              <a:t>«El diseño no es sólo la estética o la apariencia de un modelo, es, más bien, la especificación y concreción de cómo funciona un proceso»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NCEPTOS BÁSICOS IMPRESCINDIBLES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69720" y="1197000"/>
            <a:ext cx="4034160" cy="79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 MT"/>
              </a:rPr>
              <a:t>[ ENSEÑAR ]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95280" y="2065320"/>
            <a:ext cx="4681440" cy="294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= Orientar y dirigir ética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sistemá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decuad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 proceso 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300720" y="1484280"/>
            <a:ext cx="27352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= [Planificar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+ [Aplicar una metodología adecuada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+ [EVALUAR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2 Flecha derecha"/>
          <p:cNvSpPr/>
          <p:nvPr/>
        </p:nvSpPr>
        <p:spPr>
          <a:xfrm>
            <a:off x="2843280" y="2492280"/>
            <a:ext cx="3457440" cy="720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6 Flecha derecha"/>
          <p:cNvSpPr/>
          <p:nvPr/>
        </p:nvSpPr>
        <p:spPr>
          <a:xfrm rot="5400000">
            <a:off x="3031200" y="3944160"/>
            <a:ext cx="1568520" cy="792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395280" y="5124600"/>
            <a:ext cx="8640720" cy="1617480"/>
          </a:xfrm>
          <a:prstGeom prst="rect">
            <a:avLst/>
          </a:prstGeom>
          <a:solidFill>
            <a:srgbClr val="b0b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4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ncipios y características del aprendizaje de las personas adu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ntexto social, cultural, institu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ecursos y materiales disponi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NCEPTOS BÁSICOS IMPRESCINDIBLES: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1042920" y="907920"/>
            <a:ext cx="7993080" cy="7923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APRENDIZA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9"/>
          <p:cNvSpPr/>
          <p:nvPr/>
        </p:nvSpPr>
        <p:spPr>
          <a:xfrm>
            <a:off x="1042920" y="1773360"/>
            <a:ext cx="7993080" cy="4968720"/>
          </a:xfrm>
          <a:prstGeom prst="roundRect">
            <a:avLst>
              <a:gd name="adj" fmla="val 2481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Proceso mediante el cual se gen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adquisición de conocimi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y cambio en las conduct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relativamente perman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por medio de experienci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significativas y gratific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4b220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Bookman Old Style"/>
              </a:rPr>
              <a:t>PRINCIPIOS DEL APRENDIZAJE ADULT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1 Rectángulo"/>
          <p:cNvSpPr/>
          <p:nvPr/>
        </p:nvSpPr>
        <p:spPr>
          <a:xfrm>
            <a:off x="3276720" y="1100160"/>
            <a:ext cx="56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l aprendiz adulto debe ser animado a conducir su propio aprendizaje. Como todo ser en formación, debe pasar de un estado de dependencia a un estado de independ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2 Rectángulo"/>
          <p:cNvSpPr/>
          <p:nvPr/>
        </p:nvSpPr>
        <p:spPr>
          <a:xfrm>
            <a:off x="3335400" y="3141720"/>
            <a:ext cx="562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a experiencia adquirida por el adulto debe ser utilizada como facilitadora del aprendiza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3 Rectángulo"/>
          <p:cNvSpPr/>
          <p:nvPr/>
        </p:nvSpPr>
        <p:spPr>
          <a:xfrm>
            <a:off x="3330720" y="4730760"/>
            <a:ext cx="563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a formación debe estar más centrada en los procedimientos y las competencias que en los conocimientos estrictos. La aportación teórica no tiene sentido sin la referencia a la prác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9" descr="http://www.solutionpcperu.com/oreant/imagenes_web/931543_23712902.jpg"/>
          <p:cNvPicPr/>
          <p:nvPr/>
        </p:nvPicPr>
        <p:blipFill>
          <a:blip r:embed="rId1"/>
          <a:stretch/>
        </p:blipFill>
        <p:spPr>
          <a:xfrm>
            <a:off x="0" y="1100160"/>
            <a:ext cx="3335400" cy="254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http://2.bp.blogspot.com/_-pjhabM3h5k/S_dBkFJUzeI/AAAAAAAAAAM/rHsjWteYZmY/S740/organizacion.gif"/>
          <p:cNvPicPr/>
          <p:nvPr/>
        </p:nvPicPr>
        <p:blipFill>
          <a:blip r:embed="rId2"/>
          <a:stretch/>
        </p:blipFill>
        <p:spPr>
          <a:xfrm>
            <a:off x="15840" y="3811680"/>
            <a:ext cx="33195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572314"/>
                </a:solidFill>
                <a:latin typeface="Bookman Old Style"/>
              </a:rPr>
              <a:t>CARACTERÍSTICAS DEL APRENDIZAJE ADULTO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4 Rectángulo"/>
          <p:cNvSpPr/>
          <p:nvPr/>
        </p:nvSpPr>
        <p:spPr>
          <a:xfrm>
            <a:off x="3419640" y="105264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os adultos se comprometen a aprender cuando las metas y los objetivos se consideran realistas e importantes, y se perciben con utilidad inmedi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5 Rectángulo"/>
          <p:cNvSpPr/>
          <p:nvPr/>
        </p:nvSpPr>
        <p:spPr>
          <a:xfrm>
            <a:off x="3419640" y="314172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l aprendizaje de los adultos tiene siempre una implicación personal que deriva en desarrollo, autoconcepto, preocupación, juicios, autoefica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6 Rectángulo"/>
          <p:cNvSpPr/>
          <p:nvPr/>
        </p:nvSpPr>
        <p:spPr>
          <a:xfrm>
            <a:off x="3419640" y="515772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os adultos desean tener autonomía y ser el origen de su propio aprendizaje, es decir, quieren implicarse en la selección de objetivos, contenidos, actividades y evalu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7 Imagen" descr=""/>
          <p:cNvPicPr/>
          <p:nvPr/>
        </p:nvPicPr>
        <p:blipFill>
          <a:blip r:embed="rId1"/>
          <a:stretch/>
        </p:blipFill>
        <p:spPr>
          <a:xfrm>
            <a:off x="166680" y="3930480"/>
            <a:ext cx="3311640" cy="2251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http://www.gt.com.pa/IMAGES/image-345px.jpg"/>
          <p:cNvPicPr/>
          <p:nvPr/>
        </p:nvPicPr>
        <p:blipFill>
          <a:blip r:embed="rId2"/>
          <a:stretch/>
        </p:blipFill>
        <p:spPr>
          <a:xfrm>
            <a:off x="166680" y="1125360"/>
            <a:ext cx="328608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572314"/>
                </a:solidFill>
                <a:latin typeface="Bookman Old Style"/>
              </a:rPr>
              <a:t>CARACTERÍSTICAS DEL APRENDIZAJE ADULTO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1 Rectángulo"/>
          <p:cNvSpPr/>
          <p:nvPr/>
        </p:nvSpPr>
        <p:spPr>
          <a:xfrm>
            <a:off x="108000" y="105264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os adultos se resisten a aprender en situaciones que creen que cuestionan su competencia o que perciben como impues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2 Rectángulo"/>
          <p:cNvSpPr/>
          <p:nvPr/>
        </p:nvSpPr>
        <p:spPr>
          <a:xfrm>
            <a:off x="79200" y="3022560"/>
            <a:ext cx="535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La motivación de los adultos para aprender es interna; lo que se puede hacer es animar y crear las condiciones que promuevan lo que ya existe en ell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3 Rectángulo"/>
          <p:cNvSpPr/>
          <p:nvPr/>
        </p:nvSpPr>
        <p:spPr>
          <a:xfrm>
            <a:off x="79200" y="5084640"/>
            <a:ext cx="53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El aprendizaje adulto se fomenta mediante conductas y actividades de formación en las que se demuestre respeto, confianza y preocupación por lo que se apre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7 Imagen" descr=""/>
          <p:cNvPicPr/>
          <p:nvPr/>
        </p:nvPicPr>
        <p:blipFill>
          <a:blip r:embed="rId1"/>
          <a:stretch/>
        </p:blipFill>
        <p:spPr>
          <a:xfrm>
            <a:off x="5435640" y="105264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349" name="8 Imagen" descr=""/>
          <p:cNvPicPr/>
          <p:nvPr/>
        </p:nvPicPr>
        <p:blipFill>
          <a:blip r:embed="rId2"/>
          <a:stretch/>
        </p:blipFill>
        <p:spPr>
          <a:xfrm>
            <a:off x="5435640" y="3597120"/>
            <a:ext cx="3529080" cy="2424240"/>
          </a:xfrm>
          <a:prstGeom prst="rect">
            <a:avLst/>
          </a:prstGeom>
          <a:ln w="0">
            <a:noFill/>
          </a:ln>
        </p:spPr>
      </p:pic>
      <p:sp>
        <p:nvSpPr>
          <p:cNvPr id="350" name="4 Señal de prohibido"/>
          <p:cNvSpPr/>
          <p:nvPr/>
        </p:nvSpPr>
        <p:spPr>
          <a:xfrm>
            <a:off x="5435640" y="1052640"/>
            <a:ext cx="3529080" cy="2232000"/>
          </a:xfrm>
          <a:custGeom>
            <a:avLst/>
            <a:gdLst/>
            <a:ahLst/>
            <a:rect l="l" t="t" r="r" b="b"/>
            <a:pathLst>
              <a:path w="3529013" h="2232025">
                <a:moveTo>
                  <a:pt x="0" y="1116013"/>
                </a:moveTo>
                <a:cubicBezTo>
                  <a:pt x="0" y="499656"/>
                  <a:pt x="789997" y="0"/>
                  <a:pt x="1764507" y="0"/>
                </a:cubicBezTo>
                <a:cubicBezTo>
                  <a:pt x="2739017" y="0"/>
                  <a:pt x="3529014" y="499656"/>
                  <a:pt x="3529014" y="1116013"/>
                </a:cubicBezTo>
                <a:cubicBezTo>
                  <a:pt x="3529014" y="1732370"/>
                  <a:pt x="2739017" y="2232026"/>
                  <a:pt x="1764507" y="2232026"/>
                </a:cubicBezTo>
                <a:cubicBezTo>
                  <a:pt x="789997" y="2232026"/>
                  <a:pt x="0" y="1732370"/>
                  <a:pt x="0" y="1116013"/>
                </a:cubicBezTo>
                <a:close/>
                <a:moveTo>
                  <a:pt x="2854064" y="1525556"/>
                </a:moveTo>
                <a:cubicBezTo>
                  <a:pt x="3389864" y="1142767"/>
                  <a:pt x="3050875" y="600479"/>
                  <a:pt x="2183723" y="453198"/>
                </a:cubicBezTo>
                <a:cubicBezTo>
                  <a:pt x="1834079" y="393813"/>
                  <a:pt x="1452764" y="411190"/>
                  <a:pt x="1128488" y="501287"/>
                </a:cubicBezTo>
                <a:lnTo>
                  <a:pt x="2854064" y="1525556"/>
                </a:lnTo>
                <a:close/>
                <a:moveTo>
                  <a:pt x="674949" y="706469"/>
                </a:moveTo>
                <a:cubicBezTo>
                  <a:pt x="139149" y="1089258"/>
                  <a:pt x="478138" y="1631546"/>
                  <a:pt x="1345290" y="1778827"/>
                </a:cubicBezTo>
                <a:cubicBezTo>
                  <a:pt x="1694934" y="1838212"/>
                  <a:pt x="2076249" y="1820835"/>
                  <a:pt x="2400525" y="1730738"/>
                </a:cubicBezTo>
                <a:lnTo>
                  <a:pt x="674949" y="706469"/>
                </a:lnTo>
                <a:close/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232d4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ookman Old Style"/>
              </a:rPr>
              <a:t>FINALIDAD DEL APRENDIZAJE ADUL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4 Rectángulo"/>
          <p:cNvSpPr/>
          <p:nvPr/>
        </p:nvSpPr>
        <p:spPr>
          <a:xfrm>
            <a:off x="108000" y="1052640"/>
            <a:ext cx="8928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Bookman Old Style"/>
              </a:rPr>
              <a:t>El aprendizaje adulto debe estar orientado a que los y las estudiantes se conviertan en person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5 Rectángulo"/>
          <p:cNvSpPr/>
          <p:nvPr/>
        </p:nvSpPr>
        <p:spPr>
          <a:xfrm>
            <a:off x="3203640" y="184464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on iniciativa y responsables de sus propios ac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6 Rectángulo"/>
          <p:cNvSpPr/>
          <p:nvPr/>
        </p:nvSpPr>
        <p:spPr>
          <a:xfrm>
            <a:off x="3203640" y="272088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apaces de dirigirse y elegir inteligente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7 Rectángulo"/>
          <p:cNvSpPr/>
          <p:nvPr/>
        </p:nvSpPr>
        <p:spPr>
          <a:xfrm>
            <a:off x="3203640" y="349416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on espíritu crítico, que evalúan las aportaciones del docente y de los compañe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8 Rectángulo"/>
          <p:cNvSpPr/>
          <p:nvPr/>
        </p:nvSpPr>
        <p:spPr>
          <a:xfrm>
            <a:off x="3203640" y="45925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Interesadas en buscar solución a sus problemas práct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9 Rectángulo"/>
          <p:cNvSpPr/>
          <p:nvPr/>
        </p:nvSpPr>
        <p:spPr>
          <a:xfrm>
            <a:off x="108000" y="5445000"/>
            <a:ext cx="892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apaces de adaptarse a nuevas situaciones, interesadas en colaborar con eficacia en la solución de los problemas y que saben aplicar de un modo creador el resultado de sus pasadas experiencias al momento pre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10" descr="http://2.bp.blogspot.com/_LuImvghhIgo/TI7pkx46ynI/AAAAAAAAAKw/JSCjgaDpXdY/s1600/habilidad-negocios.jpg"/>
          <p:cNvPicPr/>
          <p:nvPr/>
        </p:nvPicPr>
        <p:blipFill>
          <a:blip r:embed="rId1"/>
          <a:stretch/>
        </p:blipFill>
        <p:spPr>
          <a:xfrm>
            <a:off x="131760" y="1924200"/>
            <a:ext cx="307188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solidFill>
            <a:srgbClr val="eacc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72314"/>
                </a:solidFill>
                <a:latin typeface="Bookman Old Style"/>
              </a:rPr>
              <a:t>IMPLICACIONES EDUCATIVA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1 Rectángulo"/>
          <p:cNvSpPr/>
          <p:nvPr/>
        </p:nvSpPr>
        <p:spPr>
          <a:xfrm>
            <a:off x="108000" y="1052640"/>
            <a:ext cx="8928000" cy="520560"/>
          </a:xfrm>
          <a:prstGeom prst="rect">
            <a:avLst/>
          </a:prstGeom>
          <a:solidFill>
            <a:srgbClr val="eba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4853"/>
                </a:solidFill>
                <a:latin typeface="Bookman Old Style"/>
              </a:rPr>
              <a:t>La enseñanza debe saber orienta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2 Rectángulo"/>
          <p:cNvSpPr/>
          <p:nvPr/>
        </p:nvSpPr>
        <p:spPr>
          <a:xfrm>
            <a:off x="108000" y="1773360"/>
            <a:ext cx="517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Bookman Old Style"/>
              </a:rPr>
              <a:t>Aprendizaje real de procedimientos: </a:t>
            </a: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centrar el trabajo formativo sobre el aprendizaje real de procedimientos más que sobre la transmisión únicamente conceptual, es decir, partir de la experiencia del adul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3 Rectángulo"/>
          <p:cNvSpPr/>
          <p:nvPr/>
        </p:nvSpPr>
        <p:spPr>
          <a:xfrm>
            <a:off x="4140360" y="4437000"/>
            <a:ext cx="48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Bookman Old Style"/>
              </a:rPr>
              <a:t>Pluridisciplinariedad: </a:t>
            </a: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introducir al máximo la pluridisciplinariedad en la formación y establecer una relación más centrada en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5 Imagen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032360" cy="2664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cch-tlayacapan.com/images/DSC01777.JPG"/>
          <p:cNvPicPr/>
          <p:nvPr/>
        </p:nvPicPr>
        <p:blipFill>
          <a:blip r:embed="rId2"/>
          <a:stretch/>
        </p:blipFill>
        <p:spPr>
          <a:xfrm>
            <a:off x="5281560" y="1700280"/>
            <a:ext cx="37544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1:10:47Z</dcterms:created>
  <dc:creator>User 02</dc:creator>
  <dc:description/>
  <dc:language>en-US</dc:language>
  <cp:lastModifiedBy>Lic Vladimir</cp:lastModifiedBy>
  <dcterms:modified xsi:type="dcterms:W3CDTF">2014-01-27T17:04:01Z</dcterms:modified>
  <cp:revision>95</cp:revision>
  <dc:subject/>
  <dc:title>Diapositiva 1</dc:title>
</cp:coreProperties>
</file>